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l-G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65D4D-BF23-4B11-BDCF-C6D7DBAD0C4C}" type="slidenum">
              <a:rPr b="0" lang="el-G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3B785-A959-42A2-BB48-140E14B9491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E7788-2DF1-4969-8A1F-D094EA28FE5E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2E1C8-E6FD-48D9-A92F-49667FB441C5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4455F6-FC2F-4B79-AF36-AD11F1E8F72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ECD3A1-182A-49DD-8971-ADB79275272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73504-F760-45EB-97A8-9EC58931EADC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1BBED-8703-4B88-8FA1-7892E88D8238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C12DFE-944E-4F68-898D-3F01B76E49E9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6BB2A-272C-44DE-843F-33712532552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AB42F-407E-4A96-8EBE-8D273A1E8200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883A0-EF66-4CA6-98CC-E020A1737F01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9715B-F06E-49FC-B515-8AA02729C4DF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3 - Θέση αριθμού διαφάνειας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75089-9C29-4E4A-8BDB-FAB062FF85BB}" type="slidenum">
              <a:rPr b="0" lang="el-GR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25F4-87AE-4F52-8D83-948A005EA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700E9-0BA8-4CCC-98A9-2E662973E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E713-A1FC-467A-9EEE-D33CE72DAB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4044B-5988-4EE3-9A04-B56F03770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682C-E965-4599-8D67-146382FC3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7783-4DE0-4C7F-8B07-EEC38FCD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1AC1-6486-4F61-A228-EE3D185CB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013-5952-46F0-BF2F-2EC7789AB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36BD-09C2-4B7A-AED3-B4F8FD7B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FFE27-6819-4D32-B110-A9EE7AB6B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7FB53-C694-43D5-8742-863A2F1CE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463CE-609E-4350-AA7E-6F14A0F9C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8F890F-BF17-41E7-A22D-81A7FA4A84A9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l-GR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 ΘΑΛΑΣΣΑΙΜΙ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Κλινική εικόνα Αιμοσφαιρινοπάθειας Η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γενική εικόνα είναι ήπι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ρκεια επιβίωσης φυσιολογική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Ποικίλλου βαθμού αν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πατ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Σπληνομεγαλ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ολολιθία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Ίκτερο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ιδήρωση με πιθανές εκδηλώσεις από καρδιά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304560"/>
            <a:ext cx="85345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ργαστηριακά ευρήματ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837720"/>
            <a:ext cx="82296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Περιφερικό αί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ικιλοκυττάρωσ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Βασεόφιλη στίξη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ΔΕΚ,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ύξηση Χολερυθρίνη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ff0000"/>
                </a:solidFill>
                <a:latin typeface="Calibri"/>
              </a:rPr>
              <a:t>Ηλεκροφόρηση Αιμοσφαιρίνης και Η</a:t>
            </a:r>
            <a:r>
              <a:rPr b="1" lang="en-US" sz="2600" spc="-1" strike="noStrike">
                <a:solidFill>
                  <a:srgbClr val="ff0000"/>
                </a:solidFill>
                <a:latin typeface="Calibri"/>
              </a:rPr>
              <a:t>PLC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-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2-40%, συνήθως 8-15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 u="sng">
                <a:solidFill>
                  <a:srgbClr val="1f497d"/>
                </a:solidFill>
                <a:uFillTx/>
                <a:latin typeface="Calibri"/>
              </a:rPr>
              <a:t>σημαντικό εύρημ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χαμ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2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Υψηλή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συνήθως 1-3%)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A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το υπόλοιπο ποσοστό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νεύρεση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(5%) σε μερικούς ασθενεί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Θεραπεία Αιμοσφαιρινοπάθειας 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1447920" y="1600200"/>
            <a:ext cx="7238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τους περισσότερους ασθενείς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δεν είναι απαραίτητη καμία θεραπεία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ε ορισμένους απαιτείται μετάγγιση αίματο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4. ΑΙΜΟΣΦΑΙΡΙΝΟΠΑΘΕΙΑ </a:t>
            </a:r>
            <a:r>
              <a:rPr b="1" lang="en-US" sz="2800" spc="-1" strike="noStrike">
                <a:solidFill>
                  <a:srgbClr val="009999"/>
                </a:solidFill>
                <a:latin typeface="Calibri"/>
              </a:rPr>
              <a:t>Bart’s</a:t>
            </a:r>
            <a:br>
              <a:rPr sz="2800"/>
            </a:br>
            <a:r>
              <a:rPr b="1" lang="el-GR" sz="2800" spc="-1" strike="noStrike">
                <a:solidFill>
                  <a:srgbClr val="009999"/>
                </a:solidFill>
                <a:latin typeface="Calibri"/>
              </a:rPr>
              <a:t>ΕΜΒΡΥΪΚΟΣ ΥΔΡΩΠΑΣ ή Μείζων α-θαλασσαιμί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228600" y="1600200"/>
            <a:ext cx="8763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φείλεται στην ύπαρξη </a:t>
            </a:r>
            <a:r>
              <a:rPr b="1" lang="el-GR" sz="3000" spc="-1" strike="noStrike">
                <a:solidFill>
                  <a:srgbClr val="1f497d"/>
                </a:solidFill>
                <a:latin typeface="Calibri"/>
              </a:rPr>
              <a:t>δύο μεταλλάξεων α</a:t>
            </a:r>
            <a:r>
              <a:rPr b="1" lang="el-GR" sz="3000" spc="-1" strike="noStrike" baseline="30000">
                <a:solidFill>
                  <a:srgbClr val="1f497d"/>
                </a:solidFill>
                <a:latin typeface="Calibri"/>
              </a:rPr>
              <a:t>0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    → 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λοκληρωτική απουσία της α-αιμοσφαιρίνης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Γονότυπος (--/--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Έλλειψη τεσσάρων α-γονιδίων (α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 u="sng">
                <a:solidFill>
                  <a:srgbClr val="1f497d"/>
                </a:solidFill>
                <a:uFillTx/>
                <a:latin typeface="Calibri"/>
              </a:rPr>
              <a:t>Μη συμβατή με τη ζωή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, τα έμβρυα πεθαίνουν πριν τη γέννηση τους ή αμέσως μετά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(καρδιακή ανεπάρκεια, ατελής οργανογένεση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Σχεδόν όλη η Αιμοσφαιρίνη είναι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Hb Bart’s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(γ4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Μικρό ποσοστό Αιμοσφαιρίνης </a:t>
            </a:r>
            <a:r>
              <a:rPr b="0" lang="en-US" sz="3000" spc="-1" strike="noStrike">
                <a:solidFill>
                  <a:srgbClr val="1f497d"/>
                </a:solidFill>
                <a:latin typeface="Calibri"/>
              </a:rPr>
              <a:t>Portland (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ζ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γ</a:t>
            </a:r>
            <a:r>
              <a:rPr b="0" lang="el-GR" sz="30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533160" y="1371240"/>
            <a:ext cx="79246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Οι α-θαλασσαιμίες είναι κληρονομικά νοσήματα που χαρακτηρίζονται από </a:t>
            </a:r>
            <a:r>
              <a:rPr b="0" lang="el-GR" sz="3000" spc="-1" strike="noStrike">
                <a:solidFill>
                  <a:srgbClr val="ff0000"/>
                </a:solidFill>
                <a:latin typeface="Calibri"/>
              </a:rPr>
              <a:t>ανεπαρκή παραγωγή ή πλήρη έλλειψη της α σφαιρίνης</a:t>
            </a: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 και αυξημένη παραγωγή των β αλύσων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000" spc="-1" strike="noStrike">
                <a:solidFill>
                  <a:srgbClr val="1f497d"/>
                </a:solidFill>
                <a:latin typeface="Calibri"/>
              </a:rPr>
              <a:t>Είναι περισσότερο συχνές στην Αφρική, τη Μέση Ανατολή, την Ινδία, τη Νοτιοανατολική Ασία, τη Νότια Κίνα, και σποραδικά στη Μεσόγειο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α-θαλασσαιμίε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6840" y="1599840"/>
            <a:ext cx="85345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2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Το έλλειμμα της α-αλυσίδας έχει σαν αποτέλεσμα το πλεόνασμα των β-αλυσίδων, οι οποίες</a:t>
            </a:r>
            <a:r>
              <a:rPr b="1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Αθροίζονται μέσα στα κύτταρα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Διαταράσσουν την πλαστικότητα του ερυθροκυττάρ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Κατακρατούνται στο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Φαγοκυτταρρώνοντα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600" spc="-1" strike="noStrike">
                <a:solidFill>
                  <a:srgbClr val="1f497d"/>
                </a:solidFill>
                <a:latin typeface="Calibri"/>
              </a:rPr>
              <a:t>Εργαστηριακά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 τα αθροίσματα των β-αλυσίδων γίνονται ορατά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με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Επώαση των ερυθρών με 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NaNO</a:t>
            </a:r>
            <a:r>
              <a:rPr b="0" lang="en-US" sz="2600" spc="-1" strike="noStrike" baseline="-25000">
                <a:solidFill>
                  <a:srgbClr val="1f497d"/>
                </a:solidFill>
                <a:latin typeface="Calibri"/>
              </a:rPr>
              <a:t>2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Χρώση με ιώδες του μεθυλίου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70000"/>
              </a:lnSpc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ΥΡΙΕΣ ΔΙΑΦΟΡΕΣ ΤΩΝ α- </a:t>
            </a:r>
            <a:br>
              <a:rPr sz="4000"/>
            </a:b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΄ΑΠΌ ΤΙΣ β- ΜΕΣ. ΑΝ</a:t>
            </a:r>
            <a:r>
              <a:rPr b="0" lang="el-GR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Γενετ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Για τις α-αλυσίδες, υπάρχουν 4 γονίδια (αντί 2) για τη σύνθεσή τους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αα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Παθοφυσιολογική διαφορ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α τετραμερή που δημιουργούνται από την περίσσεια των β-αλυσίδων (β4) είναι περισσότερο διαλυτά από τα α4 και δεν προκαλούν εκσεσημασμένη δυσερυθροποίηση όπως στις 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ή διαφορά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Έχουν πολύ ευρύ κλινικό φάσμα (από ασυμπτωματικές ως ασύμβατες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45720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009999"/>
                </a:solidFill>
                <a:latin typeface="Calibri"/>
              </a:rPr>
              <a:t> </a:t>
            </a:r>
            <a:r>
              <a:rPr b="1" lang="el-GR" sz="4000" spc="-1" strike="noStrike">
                <a:solidFill>
                  <a:srgbClr val="009999"/>
                </a:solidFill>
                <a:latin typeface="Calibri"/>
              </a:rPr>
              <a:t>ΚΛΙΝΙΚΕΣ ΜΟΡΦΕΣ α-ΘΑΛΑΣΣΑΙΜΙΑ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533160" y="160020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α-2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ήπια ή σιωπηλός φορέας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-θαλασσαιμίες-1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(βαρειά ετερόζυγη)</a:t>
            </a:r>
            <a:br>
              <a:rPr sz="2800"/>
            </a:b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ινοπάθεια Η (ενδιάμεση α-θαλασσ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700"/>
              </a:spcBef>
              <a:buClr>
                <a:srgbClr val="1f497d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ίζων α-θαλασσαιμία - Αιμοσφαιρινοπάθεια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Bart’s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ή εμβρυϊκός ύδωπας (ασύμβατη με τη ζωή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spcBef>
                <a:spcPts val="601"/>
              </a:spcBef>
              <a:buClr>
                <a:srgbClr val="1f497d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1.  α-Θαλασσαιμία-2  (σιωπηλός φορέας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990360"/>
            <a:ext cx="82296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  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ενός α-γονιδίου</a:t>
            </a: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(γονότυπος α-/α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Δεν συνοδεύεται από αιματολογικές διαταραχές 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1f497d"/>
                </a:solidFill>
                <a:latin typeface="Calibri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Εργαστηριακά ευρήματα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ατολογική εικόνα και μορφολογία ερυθρών φυσιολογική (σπάνια αναιμί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φυσιολογικοί ή ελαφρά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μβρυϊκή αιμοσφαιρίνη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)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και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ιμοσφαιρίνη φυσιολογικέ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Η διάγνωση μπαίνει με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9999"/>
                </a:solidFill>
                <a:latin typeface="Calibri"/>
              </a:rPr>
              <a:t>2.  </a:t>
            </a: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α-θαλασσαιμία-1  (βαρειά ετερόζυγη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3712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c000"/>
                </a:solidFill>
                <a:latin typeface="Calibri"/>
              </a:rPr>
              <a:t>     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έλλειψη ή μεταλλάξεις δύο α-γονιδίων(α2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ff0000"/>
                </a:solidFill>
                <a:latin typeface="Calibri"/>
              </a:rPr>
              <a:t>Γονότυπος: αα/-- ή  α-/α-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Κλινι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ασυμπτωματικοί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Εργαστηριακά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: Το έλλειμμα των α-αλυσίδων δεν καλύπτεται από  την υπερλειτουργία  των δύο υγιών γονιδίων και συνεπώς παρουσιάζει εργαστηριακά ευρήματα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c6d9f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274680"/>
            <a:ext cx="899172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Εργαστηριακά ευρήματα α-Θαλασσαιμίας-1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37124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Υπόχρωμη μικροκυτταρική αναιμία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  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(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θαλασσαιμικά ευρήματα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ύξηση αριθμού ερυθροκυττάρω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Ερυθροκυτταρικοί δείκτε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MCV, MCH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) μειωμένο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A2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 κφ ή ↓,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HbF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κ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ίχνευση ελεύθερων β-αλυσίδων μετά επώαση και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   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χρώση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με (ιώδες του μεθυλίου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800" spc="-1" strike="noStrike" u="sng">
                <a:solidFill>
                  <a:srgbClr val="1f497d"/>
                </a:solidFill>
                <a:uFillTx/>
                <a:latin typeface="Calibri"/>
              </a:rPr>
              <a:t>Διάγνωση: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 γίνεται με μοριακές τεχνικές (</a:t>
            </a:r>
            <a:r>
              <a:rPr b="0" lang="en-US" sz="2800" spc="-1" strike="noStrike">
                <a:solidFill>
                  <a:srgbClr val="1f497d"/>
                </a:solidFill>
                <a:latin typeface="Calibri"/>
              </a:rPr>
              <a:t>DNA </a:t>
            </a:r>
            <a:r>
              <a:rPr b="0" lang="el-GR" sz="2800" spc="-1" strike="noStrike">
                <a:solidFill>
                  <a:srgbClr val="1f497d"/>
                </a:solidFill>
                <a:latin typeface="Calibri"/>
              </a:rPr>
              <a:t>ανάλυση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3.  Αιμοσφαιρινοπάθεια Η  </a:t>
            </a:r>
            <a:br>
              <a:rPr sz="3600"/>
            </a:br>
            <a:r>
              <a:rPr b="1" lang="el-GR" sz="3600" spc="-1" strike="noStrike">
                <a:solidFill>
                  <a:srgbClr val="009999"/>
                </a:solidFill>
                <a:latin typeface="Calibri"/>
              </a:rPr>
              <a:t>(ενδιάμεση α-θαλασσαιμία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380880" y="1371240"/>
            <a:ext cx="838224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Έλλειψη τριών α-γονιδίων (α3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     </a:t>
            </a:r>
            <a:r>
              <a:rPr b="0" lang="el-GR" sz="2600" spc="-1" strike="noStrike">
                <a:solidFill>
                  <a:srgbClr val="ff0000"/>
                </a:solidFill>
                <a:latin typeface="Calibri"/>
              </a:rPr>
              <a:t>Γονότυπος (α-/--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ολύ μικρή παραγωγή α-αλύσων - μεγάλη περίσσεια β-αλύσων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Οι β-αλυσίδες σχηματίζουν τετραμερή (β4) που είναι η αιμοσφαιρίνη Η (</a:t>
            </a:r>
            <a:r>
              <a:rPr b="0" lang="en-US" sz="2600" spc="-1" strike="noStrike">
                <a:solidFill>
                  <a:srgbClr val="1f497d"/>
                </a:solidFill>
                <a:latin typeface="Calibri"/>
              </a:rPr>
              <a:t>HbH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αιμοσφαιρίνη Η έχει υψηλή δεσμευτική ικανότητα οξυγόνου, αλλά χαμηλή απόδοση οξυγόνου στους ιστού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Η κλινική εικόνα ποικίλλει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buClr>
                <a:srgbClr val="1f497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600" spc="-1" strike="noStrike">
                <a:solidFill>
                  <a:srgbClr val="1f497d"/>
                </a:solidFill>
                <a:latin typeface="Calibri"/>
              </a:rPr>
              <a:t>Περίσσεια β-αλυσίδων           κατακρήμνιση εντός των ερυθρών          φαγοκυττάρωση στο σπλήνα(εξωαγγειακή αιμόλυση)          διόγκωση του σπλήνα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Right Arrow 5"/>
          <p:cNvSpPr/>
          <p:nvPr/>
        </p:nvSpPr>
        <p:spPr>
          <a:xfrm>
            <a:off x="4124160" y="563580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ight Arrow 5"/>
          <p:cNvSpPr/>
          <p:nvPr/>
        </p:nvSpPr>
        <p:spPr>
          <a:xfrm>
            <a:off x="2438280" y="6400800"/>
            <a:ext cx="381240" cy="76320"/>
          </a:xfrm>
          <a:prstGeom prst="rightArrow">
            <a:avLst>
              <a:gd name="adj1" fmla="val 50000"/>
              <a:gd name="adj2" fmla="val 54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ight Arrow 5"/>
          <p:cNvSpPr/>
          <p:nvPr/>
        </p:nvSpPr>
        <p:spPr>
          <a:xfrm>
            <a:off x="2209680" y="6019920"/>
            <a:ext cx="381240" cy="75960"/>
          </a:xfrm>
          <a:prstGeom prst="rightArrow">
            <a:avLst>
              <a:gd name="adj1" fmla="val 50000"/>
              <a:gd name="adj2" fmla="val 54256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2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User</dc:creator>
  <dc:description/>
  <dc:language>en-US</dc:language>
  <cp:lastModifiedBy>christos zilidis</cp:lastModifiedBy>
  <dcterms:modified xsi:type="dcterms:W3CDTF">2020-05-17T17:31:10Z</dcterms:modified>
  <cp:revision>737</cp:revision>
  <dc:subject/>
  <dc:title>Slide 1</dc:title>
</cp:coreProperties>
</file>